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BED-0D5B-4EBA-9805-44E98C93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582-C2EF-40C1-B6E7-A1434961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F2D-E941-4BC4-BBF8-490F16CA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43B-430C-40FF-9132-AA27BBBA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1CF-AF77-4BEC-AD74-3263C76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6FE-26D1-4979-BDB6-E5C913AC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B37-DB90-4C84-853F-A423134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D61-E57C-4044-B901-EAF12046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9EA-063A-46AB-A868-7FE4AAC6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233-64CD-48CD-BBC6-14757BBE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3F0-4715-4190-A00A-9C7EFE2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133-1D99-4DA5-AC6E-2278E8F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7B0F-7F87-4C64-B9F7-5C9534AA0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ttangolo 3" descr=""/>
          <p:cNvPicPr/>
          <p:nvPr/>
        </p:nvPicPr>
        <p:blipFill>
          <a:blip r:embed="rId2"/>
          <a:stretch/>
        </p:blipFill>
        <p:spPr>
          <a:xfrm>
            <a:off x="1023840" y="1096920"/>
            <a:ext cx="6950160" cy="37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asellaDiTesto 3"/>
          <p:cNvSpPr/>
          <p:nvPr/>
        </p:nvSpPr>
        <p:spPr>
          <a:xfrm>
            <a:off x="642960" y="235728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Baskerville Old Face"/>
              </a:rPr>
              <a:t>C’era una volta un pastore che aveva cento pecore. Aveva una cura speciale per ciascuna di ess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Baskerville Old Face"/>
              </a:rPr>
              <a:t>Un giorno, una pecora si smarrì 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Baskerville Old Face"/>
              </a:rPr>
              <a:t>Il pastore era così preoccupato per la pecora che si era smarrita che lasciò tutte le altre per andare a cercar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magine 4" descr="Buon+Pastore.jpg"/>
          <p:cNvPicPr/>
          <p:nvPr/>
        </p:nvPicPr>
        <p:blipFill>
          <a:blip r:embed="rId2"/>
          <a:stretch/>
        </p:blipFill>
        <p:spPr>
          <a:xfrm>
            <a:off x="2857680" y="357120"/>
            <a:ext cx="3047760" cy="20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2" descr="pastore.bmp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Rettangolo 3" descr=""/>
          <p:cNvPicPr/>
          <p:nvPr/>
        </p:nvPicPr>
        <p:blipFill>
          <a:blip r:embed="rId3"/>
          <a:stretch/>
        </p:blipFill>
        <p:spPr>
          <a:xfrm>
            <a:off x="407880" y="3425760"/>
            <a:ext cx="69566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lastscan.jpg"/>
          <p:cNvPicPr/>
          <p:nvPr/>
        </p:nvPicPr>
        <p:blipFill>
          <a:blip r:embed="rId2"/>
          <a:stretch/>
        </p:blipFill>
        <p:spPr>
          <a:xfrm>
            <a:off x="500040" y="428760"/>
            <a:ext cx="8042400" cy="6168960"/>
          </a:xfrm>
          <a:prstGeom prst="rect">
            <a:avLst/>
          </a:prstGeom>
          <a:ln w="0">
            <a:noFill/>
          </a:ln>
        </p:spPr>
      </p:pic>
      <p:sp>
        <p:nvSpPr>
          <p:cNvPr id="47" name="CasellaDiTesto 2"/>
          <p:cNvSpPr/>
          <p:nvPr/>
        </p:nvSpPr>
        <p:spPr>
          <a:xfrm>
            <a:off x="285840" y="1571760"/>
            <a:ext cx="38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Dopo aver tanto cercato, il pastore ritrovò la pecorella smarrita.</a:t>
            </a:r>
            <a:r>
              <a:rPr b="0" lang="en-US" sz="3600" spc="-1" strike="noStrike">
                <a:solidFill>
                  <a:srgbClr val="e46c0a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1" descr="029+montesano+-+il+buon+pastore_m.jpg"/>
          <p:cNvPicPr/>
          <p:nvPr/>
        </p:nvPicPr>
        <p:blipFill>
          <a:blip r:embed="rId2"/>
          <a:stretch/>
        </p:blipFill>
        <p:spPr>
          <a:xfrm>
            <a:off x="642960" y="1571760"/>
            <a:ext cx="212400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3357720" y="714240"/>
            <a:ext cx="464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askerville Old Face"/>
              </a:rPr>
              <a:t>Il pastore  era pieno di gio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askerville Old Face"/>
              </a:rPr>
              <a:t>Chiamò i suoi amici e disse loro: “Venite a festeggiare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askerville Old Face"/>
              </a:rPr>
              <a:t>Ho trovato la mia pecora, quella che si era smarrita!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astore.bmp"/>
          <p:cNvPicPr/>
          <p:nvPr/>
        </p:nvPicPr>
        <p:blipFill>
          <a:blip r:embed="rId2"/>
          <a:stretch/>
        </p:blipFill>
        <p:spPr>
          <a:xfrm>
            <a:off x="78588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642960" y="78588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Gesù è il nostro Buon Pasto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i ama e ha cura di noi. Quando ci allontaniamo da Dio, Lui ci aspetta sempre e se siamo veramente pentiti, ci accoglie e ci perdona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’è una grande festa in cielo quando un peccatore è veramente pentito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1" descr="3820.jpg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CasellaDiTesto 2"/>
          <p:cNvSpPr/>
          <p:nvPr/>
        </p:nvSpPr>
        <p:spPr>
          <a:xfrm>
            <a:off x="500040" y="357120"/>
            <a:ext cx="80726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Spesso anche noi ci allontaniamo da Gesù come ha fatto la pecora smarrita, scegliendo di fare il mal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Ma noi POSSIAMO SCEGLIERE DI FARE IL BEN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Noi sappiamo quando le nostre scelte sono giuste o sbagliat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La coscienza è quella cosa che ci aiuta a scegliere il bene dal mal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4:42:04Z</dcterms:created>
  <dc:creator>giusy</dc:creator>
  <dc:description/>
  <dc:language>en-US</dc:language>
  <cp:lastModifiedBy>Steo&amp;Stefi</cp:lastModifiedBy>
  <dcterms:modified xsi:type="dcterms:W3CDTF">2009-03-06T12:31:33Z</dcterms:modified>
  <cp:revision>14</cp:revision>
  <dc:subject/>
  <dc:title>Diapositiva 1</dc:title>
</cp:coreProperties>
</file>